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44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2172-5AFF-43E5-B848-C845D9D6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DF2-7DB7-4724-811D-76178F95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D141-8E1B-41F4-9289-B5103C28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F10-E74A-4E67-8B4D-AEFBA0FA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C718-B16D-4A44-B304-6B0C0623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74CB-7EFF-4DE5-B2D4-F7E12B63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A57F-D7E3-4EF9-89B1-1DAF79F0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DDF0-DC7E-4FCA-86A3-2CFE0816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A5AC-168E-46E2-9152-911774F1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0F24-6E72-4A53-8ADF-136D6199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E626-CA86-41C0-8025-8B799559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B011-31E4-407E-A065-A36AFF6E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78B6-0E33-4D1E-A330-7D84DCF5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F3B4-DBA3-444A-B8A6-D5ADCE81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1B76-A7C7-4953-B510-E5D16885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9700-2DA7-4D94-8969-1E526FF3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5588-70A1-4D91-BA8C-40DDF8BC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42F49-2A63-4AC3-A9AC-E0C290EC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E9547-FD7C-4171-889A-9C5555DE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F0E8E-BEFA-4E07-9772-8AEA0CAC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608C9-B845-478A-9602-F09F53A1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9B6FD-FDDA-4A28-9E5B-7334E095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9691-89C5-46EB-9470-1EF3250D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C0389-4277-4037-836A-ED53229D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2E685-77C4-42DA-ABA5-0067A638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FB80D-9F37-47A8-86B8-BB149535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793AA-6CF7-47BC-85E4-DC0A51F5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2FF9C-8000-464E-84D0-666541DE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4E411-3246-4E8A-AC21-E1D954DF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63A3E-A1F2-46E0-B9D8-0909411F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C822B-A20D-4552-8A8F-3FB404EE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3C835-7D76-4407-AC04-57E13AFC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36B18-56EB-46D2-A522-5F4104DD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9D5-8304-43AF-B1AA-D38ACDCD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D477F-C93A-4844-84CF-CD1EC176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D6B74-4EB5-4E85-9BDB-AFD3A647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4866B-974D-4585-9AB1-81D6FBFD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F881E-7D25-4A01-A4CB-C6EBB906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B3C89-5E32-49F3-8377-3EBF7FC4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D9137-898F-46D4-A3A9-15A78556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41FAA-5FCC-40D4-B786-708F4C01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13F81-6718-42BD-BDE3-FB59CFAD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24915-7066-4CAD-A095-3AC71155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D9DC4-1B88-4D74-907C-9938A778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87A-7CE2-4E5E-9FF0-38321828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C2E54-1554-4F71-9881-C416FD31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9DE2E-68AE-40AA-90C0-6B8ACFA8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3F6F8-8705-4843-8552-15C83A44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C850F-E775-46C5-BB34-B0667DE6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5989C-27C5-4BCD-86C9-C36AD1B6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76483-7C32-43CB-962B-87107A83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F276A-FC67-49E1-862C-FB73E25B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CCF28-8A37-464A-BF11-D9E34A83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846C7-B849-461E-B2E3-23F259E3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4B468-88C1-40E9-B534-318D7E60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2BD-2EEF-4AC3-AAB0-BC9BBFB7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838F0-543F-4253-9955-04E81F74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C92-EDBA-4D31-9CEB-12B9E5A1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522-0B9B-4370-9569-BD03C9F8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BE2-B12B-4D29-9773-577F809A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DA62-4E34-487E-A473-274E3C86A839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144C-0924-4328-90AC-4CEBF0AA9CA0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635D-70FA-4C0A-81E3-121F90FEA36F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A6DE-91EB-4D8E-8BBE-95BB22A4C450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1F7D-1F97-4F0B-9935-ED747A8C4356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231840" y="2127240"/>
            <a:ext cx="4419360" cy="16034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ountries and Capital Cities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Ecuador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Quito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equator runs through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Ecuador which is on th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west and on the Pacific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de of South Americ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ecozones of Ecuador a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mountain (Andes) and rainfores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(Amazo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5" name="Picture 3" descr=""/>
          <p:cNvPicPr/>
          <p:nvPr/>
        </p:nvPicPr>
        <p:blipFill>
          <a:blip r:embed="rId2"/>
          <a:stretch/>
        </p:blipFill>
        <p:spPr>
          <a:xfrm>
            <a:off x="4540320" y="83808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"/>
          <p:cNvPicPr/>
          <p:nvPr/>
        </p:nvPicPr>
        <p:blipFill>
          <a:blip r:embed="rId3"/>
          <a:stretch/>
        </p:blipFill>
        <p:spPr>
          <a:xfrm>
            <a:off x="2446200" y="36180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Columbi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Bogotá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olumbia is in the north of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outh America and has borders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on both oceans.  Centra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merica connects to Columbi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olumbia’s ecozones includ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mountain (Andes) and rainfores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(Amazo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2743200" y="53352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4952880" y="76212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Venezuela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Caraca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Venezuela is on the north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nd on the Atlantic side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of South Americ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Venezuela’s ecozone i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rainforest (Amazo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33" name="Picture 3" descr=""/>
          <p:cNvPicPr/>
          <p:nvPr/>
        </p:nvPicPr>
        <p:blipFill>
          <a:blip r:embed="rId2"/>
          <a:stretch/>
        </p:blipFill>
        <p:spPr>
          <a:xfrm>
            <a:off x="4952880" y="838080"/>
            <a:ext cx="3895920" cy="5715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2819520" y="533520"/>
            <a:ext cx="14284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Guyan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Georgetow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uyana is on the north an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on the Atlantic side of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outh Americ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uyana’s ecozone i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rainforest (Amazo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2428920" y="45720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3"/>
          <a:stretch/>
        </p:blipFill>
        <p:spPr>
          <a:xfrm>
            <a:off x="4952880" y="87300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Surinam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Paramaribo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uriname is on the north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nd on the Atlantic side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of South America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uriname’s ecozone i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Rainforest (Amazo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2"/>
          <a:stretch/>
        </p:blipFill>
        <p:spPr>
          <a:xfrm>
            <a:off x="2666880" y="45720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"/>
          <p:cNvPicPr/>
          <p:nvPr/>
        </p:nvPicPr>
        <p:blipFill>
          <a:blip r:embed="rId3"/>
          <a:stretch/>
        </p:blipFill>
        <p:spPr>
          <a:xfrm>
            <a:off x="4952880" y="77472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French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uiana is Cayenn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rench Guiana is a territory of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rance and lies on the north an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on the Atlantic side of South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meric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rench Guiana ‘s ecozone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rainforest (Amazo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45" name="Picture 3" descr=""/>
          <p:cNvPicPr/>
          <p:nvPr/>
        </p:nvPicPr>
        <p:blipFill>
          <a:blip r:embed="rId2"/>
          <a:stretch/>
        </p:blipFill>
        <p:spPr>
          <a:xfrm>
            <a:off x="3454560" y="53352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"/>
          <p:cNvPicPr/>
          <p:nvPr/>
        </p:nvPicPr>
        <p:blipFill>
          <a:blip r:embed="rId3"/>
          <a:stretch/>
        </p:blipFill>
        <p:spPr>
          <a:xfrm>
            <a:off x="5029200" y="851040"/>
            <a:ext cx="3895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e6d0"/>
                </a:solidFill>
                <a:latin typeface="Tw Cen MT"/>
              </a:rPr>
              <a:t>There are 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e6d0"/>
                </a:solidFill>
                <a:latin typeface="Tw Cen MT"/>
              </a:rPr>
              <a:t>12 countries and 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e6d0"/>
                </a:solidFill>
                <a:latin typeface="Tw Cen MT"/>
              </a:rPr>
              <a:t>1 territory in 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e6d0"/>
                </a:solidFill>
                <a:latin typeface="Tw Cen MT"/>
              </a:rPr>
              <a:t>South America.  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3803760" y="304920"/>
            <a:ext cx="4809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Chile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Santiago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hile is in the south and on the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acific side of South Americ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hile’s ecozon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ncludes desert (Atacama)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nd mountain (Ande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4876920" y="1062000"/>
            <a:ext cx="3743280" cy="5491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2209680" y="45720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Argentina is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Buenos Aire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rgentina is in the south and on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Atlantic side of South Americ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rgentina’s ecozones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nclude mountain (Ande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nd grassland (The Pampa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5029200" y="949320"/>
            <a:ext cx="3819600" cy="5603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2971800" y="501480"/>
            <a:ext cx="142884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Uruguay i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Montevideo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Uruguay is in the south and on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Atlantic side of South America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Uruguay’s ecozon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grassland (The Pampa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2819520" y="53352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3"/>
          <a:stretch/>
        </p:blipFill>
        <p:spPr>
          <a:xfrm>
            <a:off x="4952880" y="83808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Paraguay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Asunció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araguay is in the central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art of South America an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completely land locke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(not next to any ocea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araguay’s ecozone i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rassland (The Pampa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2895480" y="609480"/>
            <a:ext cx="1428840" cy="790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3"/>
          <a:stretch/>
        </p:blipFill>
        <p:spPr>
          <a:xfrm>
            <a:off x="4952880" y="83808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The capital city of Bolivia 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is La Paz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Bolivia is in the central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part of South American and 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is completely land locked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(not next to any ocean)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Bolivia’s ecozones include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mountain (Andes), grassland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(The Pampas) and rainforest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fe6d0"/>
                </a:solidFill>
                <a:latin typeface="Tw Cen MT"/>
              </a:rPr>
              <a:t>(Amazon)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2428920" y="533520"/>
            <a:ext cx="1428840" cy="971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3"/>
          <a:stretch/>
        </p:blipFill>
        <p:spPr>
          <a:xfrm>
            <a:off x="4952880" y="838080"/>
            <a:ext cx="389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Brazi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Brasili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biggest country in South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merica is on the Atlantic side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of the continen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Brazil’s ecozones a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rainforest (Amazon) an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grassland (The Pampa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2286000" y="380880"/>
            <a:ext cx="1428840" cy="1000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4876920" y="757080"/>
            <a:ext cx="399240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e capital city of Peru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is Lim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eru is in the west and on th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acific side of South Americ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Peru’s ecozones include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desert (Atacama),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rainforest (Amazon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and Mountain (Andes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952880" y="838080"/>
            <a:ext cx="3895920" cy="5715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"/>
          <p:cNvPicPr/>
          <p:nvPr/>
        </p:nvPicPr>
        <p:blipFill>
          <a:blip r:embed="rId3"/>
          <a:stretch/>
        </p:blipFill>
        <p:spPr>
          <a:xfrm>
            <a:off x="2133720" y="361800"/>
            <a:ext cx="14284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16:02:12Z</dcterms:created>
  <dc:creator>ladmin</dc:creator>
  <dc:description/>
  <dc:language>en-US</dc:language>
  <cp:lastModifiedBy>Terry, Sean J. (ASD-E)</cp:lastModifiedBy>
  <dcterms:modified xsi:type="dcterms:W3CDTF">2017-12-06T02:16:02Z</dcterms:modified>
  <cp:revision>14</cp:revision>
  <dc:subject/>
  <dc:title>South America</dc:title>
</cp:coreProperties>
</file>